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</p:sldMasterIdLst>
  <p:sldIdLst>
    <p:sldId id="256" r:id="rId71"/>
    <p:sldId id="257" r:id="rId72"/>
    <p:sldId id="258" r:id="rId73"/>
    <p:sldId id="259" r:id="rId74"/>
    <p:sldId id="260" r:id="rId75"/>
    <p:sldId id="261" r:id="rId76"/>
    <p:sldId id="262" r:id="rId77"/>
    <p:sldId id="263" r:id="rId78"/>
    <p:sldId id="264" r:id="rId79"/>
    <p:sldId id="265" r:id="rId80"/>
    <p:sldId id="266" r:id="rId81"/>
    <p:sldId id="267" r:id="rId82"/>
    <p:sldId id="268" r:id="rId83"/>
    <p:sldId id="269" r:id="rId84"/>
    <p:sldId id="270" r:id="rId85"/>
    <p:sldId id="271" r:id="rId86"/>
    <p:sldId id="272" r:id="rId87"/>
    <p:sldId id="273" r:id="rId88"/>
    <p:sldId id="274" r:id="rId89"/>
    <p:sldId id="275" r:id="rId90"/>
    <p:sldId id="276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" Target="slides/slide1.xml"/><Relationship Id="rId72" Type="http://schemas.openxmlformats.org/officeDocument/2006/relationships/slide" Target="slides/slide2.xml"/><Relationship Id="rId73" Type="http://schemas.openxmlformats.org/officeDocument/2006/relationships/slide" Target="slides/slide3.xml"/><Relationship Id="rId74" Type="http://schemas.openxmlformats.org/officeDocument/2006/relationships/slide" Target="slides/slide4.xml"/><Relationship Id="rId75" Type="http://schemas.openxmlformats.org/officeDocument/2006/relationships/slide" Target="slides/slide5.xml"/><Relationship Id="rId76" Type="http://schemas.openxmlformats.org/officeDocument/2006/relationships/slide" Target="slides/slide6.xml"/><Relationship Id="rId77" Type="http://schemas.openxmlformats.org/officeDocument/2006/relationships/slide" Target="slides/slide7.xml"/><Relationship Id="rId78" Type="http://schemas.openxmlformats.org/officeDocument/2006/relationships/slide" Target="slides/slide8.xml"/><Relationship Id="rId79" Type="http://schemas.openxmlformats.org/officeDocument/2006/relationships/slide" Target="slides/slide9.xml"/><Relationship Id="rId80" Type="http://schemas.openxmlformats.org/officeDocument/2006/relationships/slide" Target="slides/slide10.xml"/><Relationship Id="rId81" Type="http://schemas.openxmlformats.org/officeDocument/2006/relationships/slide" Target="slides/slide11.xml"/><Relationship Id="rId82" Type="http://schemas.openxmlformats.org/officeDocument/2006/relationships/slide" Target="slides/slide12.xml"/><Relationship Id="rId83" Type="http://schemas.openxmlformats.org/officeDocument/2006/relationships/slide" Target="slides/slide13.xml"/><Relationship Id="rId84" Type="http://schemas.openxmlformats.org/officeDocument/2006/relationships/slide" Target="slides/slide14.xml"/><Relationship Id="rId85" Type="http://schemas.openxmlformats.org/officeDocument/2006/relationships/slide" Target="slides/slide15.xml"/><Relationship Id="rId86" Type="http://schemas.openxmlformats.org/officeDocument/2006/relationships/slide" Target="slides/slide16.xml"/><Relationship Id="rId87" Type="http://schemas.openxmlformats.org/officeDocument/2006/relationships/slide" Target="slides/slide17.xml"/><Relationship Id="rId88" Type="http://schemas.openxmlformats.org/officeDocument/2006/relationships/slide" Target="slides/slide18.xml"/><Relationship Id="rId89" Type="http://schemas.openxmlformats.org/officeDocument/2006/relationships/slide" Target="slides/slide19.xml"/><Relationship Id="rId90" Type="http://schemas.openxmlformats.org/officeDocument/2006/relationships/slide" Target="slides/slide20.xml"/><Relationship Id="rId91" Type="http://schemas.openxmlformats.org/officeDocument/2006/relationships/slide" Target="slides/slide21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172-A420-4381-96B3-8A3494BA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F17-6FA8-40C3-BAA3-DEB78ED9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D71CF-FE84-47A1-811A-ABC47535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84337-6D78-4D42-BA32-B333885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831AA-28A9-40CE-916D-043C9E23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AAF0E-2CE6-4A08-9ECD-7C9EAAB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D6DF8-7F1A-4504-BED1-AF54349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743F-0590-42D1-8D2D-B516039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1A57C-EB5A-4914-9011-71CE840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EFE26-BA70-4CB2-8F08-11574D7B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18445-50BC-4259-B38F-77EC1F94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64888-2EC3-4E52-8B5D-6F8639F1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814-2409-4590-A526-4985FF97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4E5A9-44C4-44AD-817F-F719D3E1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B69FC-5F9B-4467-8C1E-A63C3E2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6CB84-075E-4001-8C07-0D7F8A32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72089-B100-4CF7-95F1-847DCE5C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D9573-9A6D-4994-B51D-E7D0E389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4C65D-7FBA-43FF-A3AF-FDD4BCEF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71026-CC1A-4338-A59D-35F9806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DA9B2-D735-44D8-B034-5E06786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9130E-AD0C-498D-81EC-4F8F454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6A10E-0157-4A95-B720-6D40FFE7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6D2-8ADD-401E-A13E-EBCFB0DD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E9820-8597-4F5E-8C3D-999AC47D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90B8D-94F9-47FC-AC15-E97261F6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3E806-3EE5-4112-8522-5BB668C5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806FA-0C35-451C-B3A7-57CA77B3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7EB7D-1000-4959-950C-40E4EA6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30B1-2C26-41C1-A5E7-44DC8A9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0DF23-C5DD-4D1F-A38F-981FE1EA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63764-5EA4-4AF1-B032-918963F8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1CC32-B7FB-4ACF-B577-A4F1D26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B45E5-9DDA-49EA-9C5C-A5052CF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0DD9-85EE-48F5-BD15-10385734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B6E16-0414-4A11-BA63-2ACB6214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DE22B-90B1-4571-80DB-02D6B02D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4AD6E-9555-42FD-81C7-FBF8B1C4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26876-4AE4-483E-9DAA-E4766709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3651F-98FC-4F15-A53C-58CF2B5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763CC-BDD3-462E-9F9B-222E9D7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73B1-B86F-430B-B672-4758A407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267DC-D039-47BA-A0AC-289268E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CC92B-15B1-4EA6-BB5B-790A9FF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EB496-115A-4258-97DB-7627D30F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6412-0F64-47F8-AEFA-583F21F9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9C34F-09C0-412A-8617-2A59C255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B8972-EF8E-4307-9048-BD5AB4B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32D5A-DBBA-4B28-8D6C-02439C7F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A65A0-8F9E-44D0-8634-64B607DF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40FE1-32E8-46AF-8125-743CEA05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74DC6-85DE-4C36-A2F6-B300256B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F39F2-BAB1-4268-B977-E7B8937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C72C1-869F-4B83-8BCB-F5BFC95A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F5C8B-4A83-46DF-B061-20390B95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89CE5-52CE-423A-AF5A-3ACDF4C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12D-EE49-4271-93C7-790E3F36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5C737-5E10-4872-A515-7F43FB7A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B7953-CE5B-4B7C-B542-64E0BB6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48EE2-A7ED-42A9-B288-3C9C359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632FD-7CA6-40F6-A8A9-A653608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F485D-90BB-4616-A325-76D1183D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95525-3420-4794-BF39-6B067A01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CD312-FE52-4EA5-849E-4A91EEF7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EBF541-F88E-4B7F-BA36-FC713E13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37646-39EB-4050-8421-506D3207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D1A08-E6E4-4D68-A136-928CD64A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B030-BE45-47B4-B0CF-73CD3C42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09271-42A6-4458-A8EF-4FD858C1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8D1DB-073A-40D5-8722-176B0E88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CFA57-85A7-4EF3-B074-6FB6E3C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1918F-78E2-487E-BBB2-6137A3B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35708-1AE8-4387-82E1-8F4BC15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3D2BB-386C-4A6F-8FDE-9ABC07A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3AC67-6F3E-4683-AAE0-7E759ACD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25D1C-DE62-4A5B-ACB8-40B4F65A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9D6C2-1706-4F85-A574-9C0F429B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8D14E-38EC-4ECA-9473-98E0F7BA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DEC-5B7B-4975-A2A3-D39D8C7C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DC8EC-6098-46AA-8ACE-8841DBA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FD2D5-B78F-4769-B612-047D4869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94197-6221-472E-ABB3-1889A338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995A8-AD34-4EE0-8BB2-7A0E22E3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9B682-3F98-4E34-ADDF-18EEAC3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536BA-0587-4FBA-ADA4-65B7BB6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FBA23-9905-4B91-97E9-3AB55DB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7830D-AFC4-4580-90A8-3CD0430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D8259-F6E6-42EA-9AE7-4A1ADFF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32F7C-10F6-4497-A628-01F8E2C9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E57B-682C-47F3-9210-8AE0DC9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C3559-2B80-434F-88F3-D3BB63AA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780CB-20E2-4249-9470-6F7B5E79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F0346-2256-4A69-9F89-661131C2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4FAFC-92D6-4249-929F-0265B2A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B0CBB-E72B-4761-B58B-86D7A9A7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ED2A0-2020-4E3E-AC03-4B124AF1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1A6244-F7ED-481D-AF9B-898AA71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671E0-64DE-4800-A3D3-2879447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A6B68-F024-40E4-9F1E-7734CE9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097E6-C094-4251-AE1D-7F55176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7EB3-F95F-4B9F-A2ED-842F609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DA2EB-F3FA-4778-BF8D-FF98C583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2B9D2-E8D1-4056-BA8B-7C4B3D00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8D6A4-E627-4B7F-9793-E3DCF8B2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D4C4F-0A10-498F-8FA3-417B624D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F5B01-871F-4086-B17B-ED85B259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F1EFE-116E-495B-BC23-2828561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5E52A-F9F4-46D1-BC32-28E668ED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9E1B4-5ED2-4A82-81DC-F0CF2F92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A7161-6272-458A-9C33-615846BF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587B4-B0E1-4226-A8F4-92A5C95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FF6-371D-4106-B4FE-468E174F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F24A-C481-4DE5-9C89-0B62C592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50B9C-4C9D-45C1-BD38-08022762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B5C67-89CA-40CF-870D-F1F5AC5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E147A-8210-4290-B105-555540D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6FF0F-F57B-4F8B-BA6D-18DD09D2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F40A8-02F6-49E3-B40B-6A367BB4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9CCC2-7E8E-4321-80AA-21B6E7CF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AEE04-F303-41DE-91A6-E8CE5D73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E2F2F-BCE4-4464-B4F1-2C273C67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700C2-A453-413D-B637-D6F59AC8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6301C-5515-4C1F-A4A4-43FA793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2251-2F99-47B4-AA1A-49018DF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D6E00-9242-446B-9B34-A637E373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698D9-24C5-41E2-944A-2E227C6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EC8D0-CB77-4593-A8EF-DA567EE7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78AD6-F9B8-400A-9FEE-2F7FEAA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CAF8C-B469-44C9-B730-8538C088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4D742-0E9B-49EE-809D-EC03178E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13541-4027-4400-A654-8282B4EE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04CBA-917C-4B27-93B1-F8FFB6CA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99D2A-B3CA-4B0D-9779-BFB72301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7E17A-3B04-4509-81A0-609F9D3F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3D2B-5C29-4D7F-8CED-98A0ADA8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199CE-9BA7-40A4-B25F-89AB7410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7DCC7-C13B-483E-BC65-3ED1922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A6812-96F5-4F4C-AC96-FE1C43E1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A2BFA-1FCE-431D-BBB7-903D400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943FB-B9B3-45D0-963D-55F7D10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999BB-EC74-45A7-93E3-9F02E99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33E5BB-32FE-48C3-9E1A-337A1B82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A68D0-4FBA-4BEF-9138-6A800690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17991-C274-432A-9A4C-374B1FA1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833EF-2511-415E-8067-DA361820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A945-A694-436D-B999-C9A10523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9A45E-D497-48DC-9317-302A93B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5A82D-B053-4C6B-879B-B7829C29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D21EA-2A7F-4028-B679-8516BEC9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9961C-BFD6-4385-83E4-C015C1D1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04C00-28AE-461B-BD71-5892867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C7BA0-5350-4864-866F-BFFB57F4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4FE39-A595-44EB-B242-60955082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0B7A7-3F8B-4664-A563-FC1ECB9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6779E-138D-4B34-A872-7EB6C928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D492F-F129-4902-A080-9D3C1E56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310-2D8A-49D8-9DA8-C507CE12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8AA3C-5251-45CA-B36F-BE60F506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35BBD-FFD5-4BE4-A4DE-4D5C1984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FC46F-1C75-4FD6-A23C-22875ABE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B6099-0961-4ED9-B5D7-E7419435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3BBC0-1BA7-4E7E-BE38-AD0923BE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D84A2-3CF4-42A2-AAEA-9451535C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76B62-25A5-415D-87E1-CCC8B1C7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83AE0A-4AB7-495D-95F7-23E2DD03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2451A-B956-4C13-B547-92C0D58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E76EB7-14E3-48BC-B194-5A4E23E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12DC-3166-4899-AE8C-2EFEEF33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67472-9020-4268-8AE6-F8D3E5ED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88E9A-7834-48D9-A452-810F87BD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E04B5-2C05-42BC-8177-4CAEDD74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8917E-69A2-432D-9DE1-1F4E32CA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CA6395-4186-4E87-9386-87EE776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F4C7FC-11B9-43A5-9D6E-15E227C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32CC1-B391-4870-94B1-4F297F7D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0018C-D13D-4BC9-83ED-34560DA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0AFA74-E5E7-4322-A146-97FF56B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60A5D8-BA1C-4FEC-9F29-20D43F5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2A87-9AF1-48DE-8A47-7380E714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80C149-330A-4ED7-9618-68BBD4D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6DAB1-A043-4F08-85DE-91BA72C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0CE29B-631D-4363-9356-9BDB95E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86407-4B70-45E3-857D-ED82CBA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20DFB-85AE-4A5E-A8F3-F667CBFD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460F2-D17C-4F35-8565-636148D1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EF5B63-BD3E-4EDF-A568-DF5B3970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E8F15E-347B-4ED1-8FBE-7550F813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C4BFB-A03F-49F5-9E95-E96FC627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221B8C-85B4-4B8D-AF95-B1D44DD8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2BF9-6BD6-4609-98A5-5D352DAB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317645-9772-45B4-86B4-77517827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96B8E2-BB86-4C4A-8F70-2B035A0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939D4E-4A5A-4C9A-90BF-24D248D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253433-5178-4083-A222-EAC31870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1841D6-F3AB-4BE2-95C1-A197BAD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1C059D-9681-495E-A5A1-8A5BC67C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B2979-326F-476B-9342-12D78C87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9822C5-630B-4F57-9023-6728237D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885F87-ABB1-4C90-AFBF-873B3D3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204BD-EF75-447C-90B1-1ADB89C2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8BD0-DE82-40F0-8884-4B450DEA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B4BF68-CF39-4373-B5D1-587CC617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45C85C-48AA-4E4D-9A33-F5C397CE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C18379-5338-4C89-8124-CE95BCDE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939959-36EC-43FC-90B8-1CA6899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949705-1FC7-482B-AC0C-90F5922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42F887-E91B-4E27-9B59-377C047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CD81F1-18C0-4ECE-A481-AD43B73D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978AA0-E765-458F-81B8-1FBECB9E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C583C-25C9-46D0-A10B-637FDE50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499E63-1387-4FCA-9C45-08270065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1B68-37D8-40E0-B4A7-3160A502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1D6208-B26E-419A-92EF-25888262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B795A6-E674-42A4-A0A1-F82FCA8E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2CE983-A567-43F1-A7B3-A361F444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8078F7-DD6F-42BA-A143-011FC380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009AA9-94E3-4BFA-9F97-D34EF1E9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EC30FF-D7A2-4991-A3CF-95C2629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8C57C3-672F-41AE-8288-CC36002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7F1A70-BC09-478C-A106-25AA5687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8D908E-8A45-45F9-83A2-E70C0860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DE2C4D-9326-4B2D-92B2-04AFC943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FC1-0DB4-4D7D-BEA3-B786471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1B9F-5CCC-422A-A69B-F9A2604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5305C0-9103-453C-986F-CAC65775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5D3ED4-876B-452A-9114-3BF6F119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77A9F3-CD2F-4DE9-8C91-DEFAF45C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47F678-2387-4673-8D14-B9B11FA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28C2E2-76E7-4FEE-AF2E-3DD76625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FD3F03-861F-4D98-BF5D-403A82A0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8A2BBC-CC55-43FE-A9AC-7CE82CB6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E91CF-12DF-4249-9151-DFD73375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82AFE2-444B-4F36-9AAF-4268323F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BF07A6-D5F6-4A6F-A0C2-414E6A8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18F7-0158-469B-A64B-49A1B90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21C0B7-2E68-4A38-93A7-E0060CA6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9FAA3C-14CA-468D-A0D4-6777CEC8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36622C-F8E8-4D8D-BD04-D7459E7B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5ADF4B-5A9E-41DF-8B9A-BBD3415C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976D64-3C38-4472-821C-2EE1271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999C7A-0585-48A3-81B1-90238472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DD7EDD-3243-47DA-B516-5B28D57A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F7A136-A057-4FB0-AAE7-62CB8641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018E29-135A-4908-BB35-7FA7DAED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97F8F3-8FCF-4E95-8622-8E95B11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D55D-A363-4D2F-9D0D-9765DB3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D5E5C4-8905-4708-86CF-23ED6D22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8F7510-47B4-415F-B2A6-5219035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C5266C-0F3C-4121-8A62-F67102BB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62E737-20CE-40B9-8291-B37DC57C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62D36B-686F-41CD-84A8-DDD7927A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0D3404-FBCC-4B8F-9F9C-23467D4A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A3BFAA-3398-4AFD-B308-8482DCF4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1A37D8-BCD5-4228-A9C0-2BDEAE3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7888EB-CC99-422B-8217-AF886D3D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961477-ACB7-47E6-9905-E7FD8839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C6E3-25EB-427E-894E-B8C9EBE7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324622-C7EF-4BF3-9A9E-51BF9E6C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969468-4B5E-47EB-817D-FE6311D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6DAEDE-A1C2-4E12-8FD9-ED383D3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4691FD-6865-4362-949D-6F236447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50F745-4D57-432B-90D4-63AEB6D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86A3EE-FEF9-4E9F-B959-2B21F1DE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A8EF00-F933-441B-8C4D-882C0D76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23EEB1-0BFC-4F8D-8542-AFA9B0DD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7EE112-BCDC-4D1F-83FC-F5D1C0A3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6B5E6C-963A-4604-BAD1-A2E378B7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303E-6F97-41D3-B0CD-4D2F38F1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CF0033-5BA2-45FC-84FD-F4646054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F869AF-A639-4486-ADDA-B6EB065B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C7ECE1-7454-4DF7-A7CD-6F000471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CF79FE-1D75-4096-BD16-7556E4D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C42B5E-D167-4E93-86F6-B187FF9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81322B-8A31-4233-8955-58B98CE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6EC575-A60E-4202-A21F-8058ECF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E766F1-4365-47D5-83A7-B7D8BAF6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FA4D28-4FB3-4950-9D8E-09BAD8F9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00B619-0DF1-440D-84FE-98FB0BE6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4B77-FF34-4E68-BDEF-1D77A44E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5183E8-5679-467E-AD11-5094DC72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608028-7B56-45CC-898F-3AE163A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45F8C3-6773-48BA-B868-F086A4B4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8CA7A6-9299-4AAC-998D-67B3A97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3AF856-39C9-48B2-B0D6-B3D863EC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B5CF37-D898-4B70-866B-E2544D8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264F32-D2D6-4B5E-A155-5359E02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540D75-CB2D-497B-9C48-53DF0B5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2E853B-D87D-443F-8C58-5A9CC29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BA30DB-7D77-4F88-B77A-99CFB625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1CFB-D71B-4110-98B9-FD174F03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4D6A8F-DDE1-4FE4-B72F-5C4EA398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ADB975-5EFE-406F-A25D-9A0E8156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C2E457-6F8C-4544-B771-C18C7150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A6F093-DCB1-4EBE-A637-0607F66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2ADE5D-7825-4D9E-B4D6-C67630C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4B0AD0-C2B3-4DBC-A55C-289A3B2A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8A6AE3-F100-4215-93F0-E60D8937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3A394-C9E6-4896-B5C8-B36EA006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D92807-95DB-4E67-B11A-B814A90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020864-4E76-41B9-BDD9-F05EF67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10CA-504F-4CB4-98C4-CA127EE1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EC0C25-0E0F-413F-B62D-2E7A8CC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129B53-3DB2-4027-9BF0-480835E9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2EAD4C-329B-480E-B1DC-082B5638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A98177-B810-43E9-969C-5C781C8A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C9FD19-BC62-4CAB-A2E2-F4FFA18F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9887F6-B082-46F8-975D-EA24FF00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6B9E6E-4FAD-4890-A6BE-F53A04D8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C680BD-1F0E-4D43-A348-3410D5C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B34C14-985C-4CF6-B97B-5FD87F0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A1A10E-EB4D-4240-8B08-3EC38CE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722A-C298-4393-8EE8-8558F665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66D626-F404-4673-9C68-6BBBD50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D06BC5-0732-42B5-A2E1-F5835E43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B9715D-7034-40B4-926D-F6720D9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77B05E-0D4D-44D2-9F4F-FA074AE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49B794-983F-4973-8C0A-52CBC23F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EBD76A-AA5A-493A-B413-92C727E4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4C06F6-7125-4F4A-AB8E-643E78B7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0FEB2A-CBDC-45EA-9CBF-A48002AB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A9CC83-B9AB-4471-93C8-EC25FFF0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7CCD24-6991-48F0-AFE6-2EFCED8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2BF7-A8E4-412D-8260-746DB93B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3C8CF2-C0C5-4AA6-B941-846819A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F6932F-AA3C-4713-B002-07C6262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620EF8-B194-499A-AD74-23B920D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7C2C4B-5052-4904-BEE0-8DF842E2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7A4734-5B54-4677-8FFC-B9CDF13E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60E026-0076-4D8F-B0CE-70F2DA9D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D2DD1A-CD69-4BBE-BF03-73C06EEF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90A256-CB4A-4F50-8246-7C112459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074DBB-12C3-493A-AF32-F1080EE7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964DBE-2ED4-4354-B823-0014D96A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51E-E662-43F9-8E37-483B1B98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C9E9-A7E4-47EF-BCDB-366023A7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403DEA-8224-427F-BD9C-7742A301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395635-C45F-479B-B1C4-74392617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44E85E-23CC-4F2F-83C4-F924B7F0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8AD264-EEA2-41AA-988F-F51FB6E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94551B-32C2-4EF3-BE70-0AE2896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20D2CD-782E-4D76-86E9-84B485F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6C28CE-9B08-42E0-A37E-DBF5F377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4BDA4A-8AE6-42D3-9DC7-4B267ABD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B583A8-C4FF-43CA-8D95-10FFE80C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92857C-FD51-4374-BA34-6AEA5F97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C022-F4A1-4091-8835-E197660A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7F5286-302D-44B8-88D9-4183DEA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35B2BC-5BF3-4206-BB7B-10226386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6BFE14-2147-4263-B2BE-44E2BC55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C0060F-6E87-42A9-ABC0-69230D6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99ED79-9658-419D-955A-D1B5F08C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C82EDD-C25A-45CE-9B8B-9520981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3ED5BA-2FE5-4734-996B-79D82FF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895B03-6422-4DBE-B0C4-CFECB7A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8C87CF-41DF-4DCC-B808-5E5F9EBE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7F0517-407D-49A3-A659-62E7DB2E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F008B-9FC0-44A6-BB89-CD81BD75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02D65A-7CCA-4590-BC53-C801914C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4876BC-1D78-4323-B039-BE4B1017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A3B676-9A27-4B15-9D7E-36A3DA8F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C8C51A-7409-4D76-9541-548DF29F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27A96B-3DE2-4DB2-979A-37E498F5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FCA3CE-D473-483A-8C61-52FB86E4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C9F403-DF81-4D3C-A4C0-6635F794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1A4318-50B1-47FF-88C8-2A73E411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70E34C-C726-4FCC-A165-AB9749D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39BB55-4A88-419D-8958-2D72C2B6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FC9C-A87C-4900-B72A-2A91CFD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494B4E-7027-440E-A911-70EF333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637BF8-2046-4C82-A939-96BCDA3A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F7A8CF-2C65-4817-8C39-EB163160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CAD882-CA2D-4C28-A088-1F390642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42F120-76F6-471F-81E5-92025DE6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207AF6-36CE-4D9C-9191-BBA93B99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24038B-3E92-4790-8252-8B9F70E7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4A430E-4B00-4A64-90E4-1BEEADE5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FB9335-293C-4FB8-9B5F-C6D1F7D2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858CC5-83D3-491F-8CB7-B9D309B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9907-9B6C-42E7-8523-9670BF35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89A85B-F340-4162-980A-730C060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092003-224A-42EE-8E88-6AB9C7B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DDBC07-8F90-4B4B-9CF2-514F04A6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C98FF3-8BFA-484C-A7E6-D2EC88A5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059C49-6411-444F-884C-FE5989F4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D321E1-1373-4219-9517-6CB607E0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58B71D-866C-4894-BAD5-28172C2B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96550CC-2696-4708-9F95-AF81A13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F17B5D-A905-4867-BF03-77DEB258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8B9761-93B9-4C40-AC37-C7B7B875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F851-F393-4017-B502-8DD8E812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C4976F-EC46-485F-9802-3677F52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E1EFE8-5362-4B99-B249-E0E5DE6A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50BBF5-6632-4192-96A6-0A06DF5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942C0B-CA42-4A89-A120-B222EA7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93DF20-CEBA-46C2-8CF1-199EE9B2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CC1112-0BDE-41DE-A6E0-0F2BA413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F292A9-8496-48A9-BE28-C641D36A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19C830-4971-4F81-A830-5310264C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009396-D0B8-4A4D-9726-3DCACDA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0CAF35-5E33-4895-848E-68809906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BC53-65E5-4842-B8D3-696608A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6C443F-253F-4214-8FD5-ECCE03E4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9721AE-9A27-4507-807E-428C1ADB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31C5F5-B8BE-414F-84D1-AB14669C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63D73E-DC2A-4E86-A1BC-EAD5022E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04A254-AED1-4226-BE8B-70A44AE3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775A27-F0C1-46F2-9491-B65768C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947609-94AF-423E-9C31-820E9F01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32806D-0C43-4B87-8D06-204CB771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B36547-D86A-4973-A433-187E8D5A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12F83E-3E91-4265-A2B7-44943AA4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1998-E9F6-4173-9513-01E4FA1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EAFB22-A45A-48D2-8E2E-771D1CF8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182F69-E671-4882-BF87-D1A95A5B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8172A24-E284-4D68-9303-8D62906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3E099D-E945-4BF7-9100-69055AA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8AA74A-8F9E-40E8-A49B-6F23A64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8728CB-B53B-4876-81E1-F26CA7D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0685D6-1C62-4BF9-900B-0AA89FDD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CE5FD6-85A0-44DE-9A43-EFCA632E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7BA5D6-CAAA-4573-BC26-30B9B714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F229F3-F38E-41F9-89D0-5E32CBD1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D84F-4953-4FBE-AD0D-B5C199C4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23B218-4738-4203-A358-8F040DF5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7696F3-DA63-4E47-A662-A8C49F8E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6D626C-E72E-48C0-974F-F84B7D85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5E8B2C-32FB-4D9A-BC27-B025B878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261B38-18B5-4F67-89FD-873EFAE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163B9E-B55F-432D-9BDF-CCFAA4F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498C27-0648-4BC5-99D3-2E7E4418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6F0FDA-F5F1-45CF-9907-81DF4BC2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E6296C-D059-4067-90F8-26B54B4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655933-FCDB-4009-A73F-6289E8BC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EB244-6162-4BA6-86C0-286C248A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BC2C6F-6C0F-4FE8-95A7-30042590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5D72BA-CA18-48F6-94CA-E72CCE16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2ECF58-5D6A-4CC2-9DD9-B852EA5D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56F36D-4F2D-4F92-A976-4FEE00CA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CDE33C-DD2A-4F8C-9877-0810C732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071AAA6-7570-4E16-B48E-F778A439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21871B-2BD7-4992-92DE-7508485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692F3B-5B15-4519-8F4B-42994BC5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13D918-0459-4DB5-8037-6B594D09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4F3FAE-5C86-42FC-AEB3-F8A90D9B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A10-83E1-45FA-9E0A-815951F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6E4B-91D2-4B34-9DBD-3410D92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CDFA990-B96D-4639-889E-E56ED25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3C5BE8-096B-40C9-B639-8BFA847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1E00B7-36BA-429B-93EC-2D03660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A17F1C-D122-417E-9A52-7CE9E03A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871079-7402-4FEE-9973-3EDB351B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2EA618-5A5E-476A-B344-9D03DE0A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AF469A9-CACE-4A29-836F-950B7814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8297B6-1812-4960-BC3A-60D66FDB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927FE9-A422-4836-87ED-9B6FC8A7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5252B8-523B-4FA0-8119-43787BF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6E5E-990B-4B33-8417-35F4272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2531E9-54C9-4BAC-85E2-9E767A69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883FE0C-5839-4617-85B0-ACA2249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E48597-0276-422A-ADFE-AF92755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DD4F4A-9F11-4191-A237-3302D36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B330E3-4A9C-4BE7-8F4D-048EDE27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2E4878-BE9F-44EB-B8D4-BDE24F3D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51599A-2AC7-4916-936B-E9F008A3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D506C5-AF68-4253-8574-B0041E52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ACDBF38-C475-4883-928D-B72987D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A92BB4-35FD-4A43-A4EB-5211819D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B78BE-BFE8-44C9-80D6-A381C1C6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739E3C-F733-4889-95E1-1CC5017F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C9866F-D8B8-4982-8BAC-3A380FD3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FAACE5-1AE3-4C9E-88E1-BCCA67ED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D44C39-531C-4E53-8683-A2B1E6D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D40419-D8CC-44B5-B81A-7573421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7D92B0-A6DC-42F6-B361-AA2AEB67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3F6497-5607-4F1C-B915-12076C31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07AB43-C01B-484E-96C6-1E8372DF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688AD7-F99C-4066-93FE-00BD2A72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9BB63F-E1FF-4FE7-9036-AE118EC8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EFF0B-A7D6-4F5E-8A0E-FC9BF207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A9B321-96D8-4F97-8A5F-6EE29FB1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8BE9D4-6A0F-48C3-B25D-268AF15C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C56AE7-30BA-46FC-9000-E352849F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7B5226-E11F-407E-929B-96C2198C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607E79-8E3C-4862-8545-CF4A6E34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7F5751-DDD8-4069-B908-488FAB17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D749C6-98E7-401B-A617-E9792B5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91996B-328B-4E9F-8A89-76108D15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9DA9502-A847-4D50-87A8-3F6F1684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CADDDD-7A19-40BB-B1A6-5884F020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E501B-7D5F-462E-B8F6-258C6B9D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3A67B2-234B-4529-AC26-8DCB91DF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875876-46D8-4CC2-B7ED-45148892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EA7F43-4AE6-4AA1-BD19-04C4BE40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8EB352-61B9-4FE3-BBD9-ABE37DF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DCCF01-D17B-460A-8823-DD11AA25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E8A751-7805-4BE1-8D4A-29792FA6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DEDE5A-50E5-425A-9479-D3EC73BD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EFAFD8-283E-4F24-AC73-4AD4A30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F8034C-9CF3-4971-AB93-D3E2F03B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977110-E8D8-4BD6-ADC8-C5CD23E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21A3B-751D-4405-8A82-9A20B27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E6967F-2851-45E0-AF56-29DA0497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09503F-49CC-4BD1-AA7B-7951C1EC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496FB1-E0F2-481A-A015-A646B695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D585F43-D938-42F6-89F6-E5350312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055398-50E6-4E33-BAE9-949D08D0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A8DB17E-71F6-4932-8E92-3F67EEA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C2AA3E-A5DE-47A0-A804-28AE7FF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4A62B4-27C5-49E5-B5F6-21398126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69272B-9386-4873-B28E-A673C4A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E34207-E9BB-4C3F-BE30-F9032C09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999D-D0DA-4755-9A6F-63FA9D8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A7FF4E-ED6C-4FBB-AF15-DFAEDE4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16E0988-3315-4078-87EA-A373545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45E1F4-6C25-4D62-BC70-1EA1933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59A5AA-5E90-4BF3-9467-6D0588A9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31B320-CE0D-47C9-BECC-3B1D9FC6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F000F0-EE11-4DE9-8EED-94CE5A43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F9AA3C-7BA8-4714-8791-2384A8C8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CD0BFF-CBA5-419C-B124-809E914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78D1BC-722F-49ED-91C8-90554B05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EDD2330-66F4-4258-89F1-B86BCE6B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125B-740F-4133-8806-88EF0C89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0758B0-7613-4245-A020-37AF2216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280E2A-6D90-477C-97B0-1E3A153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F04CDB-0D63-4DDE-9D73-AD92B72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76B277-56DB-4676-8464-A4087CAC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277E82-0CF6-4046-AFB7-F285B75B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3AA702-5B42-49A1-9AA2-AFB417DC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346731-B448-4938-A4C0-9532C69E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335E9B-CF95-461B-82D2-8935379F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0A6BDB-AEC2-4358-A832-E4D1A107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302637-F392-480D-B2AE-49195E92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D111D-29D3-449E-9BD6-7D99956B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AAF316-C057-4B37-9C40-02B691F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A6661C-4637-4132-8C52-72C4065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BEC4C84-ACD6-4410-8660-10D67ABD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B4268D-1C5F-4FC7-9DD0-9726EC8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61E9F2-61C5-41AF-86E8-8BE209E0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5F8E0C3-BB57-4611-ACB0-D4A6351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D3B359-CA3B-4F72-AA47-F84F98E0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B3269B5-896B-464B-9C01-B4ED8B6C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2EA130-7120-45BB-A694-1DC65D9B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9D998E-B985-463F-AE9B-92F78E11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D0F9-8095-4FE8-B3B8-D23EF5E3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CE4470C-D009-4D8B-A104-7C0F8079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D6F591B-B400-40C6-A2D7-679FE651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4EBA5E-9C01-478C-8F2A-6C0C4FB7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0B92020-C15B-4299-9193-1144F5B4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6019D76-5DEB-464D-A666-6F20D40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8E32E4-40C2-4A39-B2F4-5CBF96F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15E25F-E2BC-4996-B5D0-C3AB99D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EEBBF1-75F4-4120-AB3A-E7CD5D8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04CA996-2B06-47A6-9737-66224B72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FA4EF1-B768-42F1-8C21-4B37463E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C65-C62D-453B-A04F-294C5C4C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96C0-DADE-4C27-B6BD-64014AAD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30A5D9-7250-4AE4-B2C7-5FEB150B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031536-81F4-4960-8347-4DD959D7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B0159F1-1573-4B7D-8E34-D170C16A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9F632F5-AA97-48E1-98F5-412ED35D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FB87932-958F-4503-994F-3A454304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1A1E97-1354-4185-804F-B81F17E1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4B21F09-74C5-41E2-B5B7-92C00C65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69EACC-5321-4A06-B95F-FD79658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034E5FD-3A40-4195-8480-7D704C5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A8DC2D-83AA-4A2B-BE6D-6CADE79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DDD5-F133-4528-956B-657A8ABF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7DEA71-35DF-4E8A-9DA2-0FDC6DB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E7DDAE-DDD1-4B2E-9BD6-A9665686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A8B57A7-C4A5-4085-A427-97D2DA47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F314E4-17FC-462E-89A8-E8CD0471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97F1D3-6B8E-4B9F-BA32-F404B96B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09C468-5F68-42A3-8CDD-6EDAA35A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34FF4F3-FC60-410A-97DC-CA4B6A6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48DB7FC-816B-4FBD-8A41-C8EE9CB8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5B3A3F-9AB8-4383-9B82-CA86494B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98F2C54-B97A-468C-BB62-7169681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BF9A-259B-4A08-8166-0338DF54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6A93EE-6B16-4486-A0FC-0630B7BE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B237FC-18C4-46F6-8837-F24036E8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1A2D6F8-3418-4929-B9D2-C45D079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3B5063-8C23-4053-84A6-16427BEC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E9754F0-8C93-4F5D-859A-E50BF7D3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A9D344-8AB0-4587-9DC4-5E9B21A5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BB76ED5-60D8-4B03-8778-4D08909E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6025393-0C6D-468D-A1FC-EF323DAE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E03CD33-27B7-4B97-BF0A-9CF79363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D47DAD-B44D-4F8E-8F31-DCE0A527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5658F-7093-4C0C-BCBC-5FA19079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2A585F7-B7D9-406A-9D56-5EA0B38D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070CCA-74E2-4C10-955B-74B78752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C8EE10A-476B-4DAB-963B-A7E16D72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46B2798-0F09-4EFB-867D-7553FA3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71289D4-72D2-4D07-AFE2-0205752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901BD2F-C58F-42D0-A5FA-5B4FBCB2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AEB917-A614-4481-B2A2-882762DC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F5B09B-BA20-4DAA-980E-646070EA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43023DA-74A0-4A85-BCB1-41DCEBA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9E732A0-4844-415A-B862-813E58B6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4242-FE31-466D-A552-A9815736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708F3DD-633F-4B0A-AFEF-EAF31CD7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FA5A0FA-14E2-4BC4-B5B4-976A5465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4278317-3E7C-4133-87A9-4FFC5BEE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A2E157-4B44-4280-992A-DA0F425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31883C-6746-4B07-BC20-1D6DA12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6405D4-34F0-4F0B-87FB-C8053E2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3A39A75-DA56-41BF-9F88-B7C0B901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A84AF1-EAFA-4D51-AF4E-4B2D549D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B0C55D8-141F-4321-9407-2955F6A4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7A48191-A77A-4143-99ED-E5E2E63B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E0974-A16A-42DF-BBAF-F6425CD3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56C4F8-819F-4239-B4B8-7668A9C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A4844B-674B-42B6-89BC-9CB77AE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5558CA9-54D5-47CD-A7BE-6F25231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7A3443-1216-4841-9F08-FFC6DC6F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DE65C32-5735-4443-AF65-41371CF1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E158E97-CEB8-4A27-A168-6720619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29E3277-87C1-40A5-9932-1C92F5B4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1CDFCD-7809-4D04-9073-13F879E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F5CBD6-F597-4791-81B6-C7F970A0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CA0EAA1-3B40-4EC5-ACD6-CC02D333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8A28B-DF13-48AC-995D-3B20E3CE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4BF9FE-934B-4277-B246-EEC64E8B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D981DD-119B-4A4A-9222-E4140DD4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764BA6E-7167-4E84-82C8-0832A9A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78E480A-D4B2-4AC0-BB23-3620879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F9E1B73-6CC0-4CE1-82A7-707AB69E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F5C30F-34A1-4DEE-AFD9-A2C350E0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B723D9D-606A-4028-BB1C-18231B49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D77C9A-0E1D-4F94-AF8D-F2B75E4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9508640-8728-4673-A197-9BDD920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66DEEB-DC13-468C-BDE3-871ACAA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2723-33F2-4EB3-AED5-EBD449B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D86E74-E5BF-4579-871A-7D4C762D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FD4217-01AC-4A0C-B0CE-AC7B106B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049997-6C8A-484E-AF06-D798DCAB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F67F4E0-0379-4A74-A7C4-1E21C948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95D37C-9E15-4FFF-8763-6E0439F7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3B306B6-B784-451C-881B-5E978618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F8A1AA-B59A-416A-9C4C-3B4B19F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2CEA799-B206-4C4E-B2E2-29BC6ECC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73F8B89-F440-4229-8338-E0FFC539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084E2B1-D8BD-4708-987C-72182AA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975CB-509C-4C89-A1DB-3D88080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3635FA-DF13-4A21-AA45-A676DBF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92B3202-7495-4322-8FA7-267644E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05CE1E9-B83A-491F-A418-A198FF0E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6478B4F-2839-4D3E-958D-4E677D74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A796A80-3218-4385-B050-4B19D4CA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5A03C6C-AAC0-437F-9A19-01970567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E9486FD-A1E9-40DD-BBA4-73F38391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3588641-4B09-4972-BC95-A9A4AE9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78283F6-B688-48A0-932B-DBE4E514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BD34823-5131-4591-9708-5E94BD6A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34BE-959E-4ED5-9444-FD53AF10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6562C85-5049-4971-98B7-81905C39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25CD870-F8AD-4456-A3EC-B19B60E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AD98553-1368-4898-859C-4EA5CEFA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C44034F-FE56-476C-A9F1-925EB00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A174115-2C1C-4FCA-8E4B-D11C904C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F0322C7-2ACD-4987-B99D-B406A1BA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1E3F2B8-A053-46B3-8EAC-FEAC808F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8A50F9-5C3B-45F8-B63E-B54D9989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E5A315-0CCF-485D-A217-E2865B31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8B2119-6FA0-46CC-9ED8-FD0A636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5DE-EF3D-497D-AE34-24DB9CF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8666-0050-40C5-B177-0D9CAB67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F64F924-4A6B-43A1-98FB-65CAB5C6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B39DAC9-9656-4D5E-A256-EFE24502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306BDCB-9535-4CDB-9994-DD60922E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53D328B-6D2E-4594-9CEB-12CDFBE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85A3F41-8874-437A-84CF-5D8A67B5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BF7B5CE-2EF8-4A95-8309-09D9EB9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2A19D43-DFC0-4D2A-A61A-AE96E83F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CF290C-8719-404C-A436-4CF9FBFA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74BB74D-2E50-4AB6-A886-DD15CEEA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6946581-5AD8-4B10-AA4C-EAA91A19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7FFE7-4B4F-48BC-8DF7-7DC7BD1D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52D3800-8A8F-4D39-9E38-87B5852F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DBD31E8-16E9-4AE3-B13D-D73680F1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2D10F42-C240-4647-BDE5-FE148A36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6B5FD75-345D-4054-BD19-E2D21E65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B92F8AD-3262-43F6-9C51-3B8CDCF1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0F6C4C9-A417-4043-817C-E899CDB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C650E7E-AE77-4984-86ED-BF3321DB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7A9811-7CB3-41F0-951C-9FD28C5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0101DB8-3507-48A8-B46A-EE55C078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D18FD0-BA1B-48D8-9CDC-9D1CAD08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87CE-2DD6-4EB8-99C1-13E3F253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11E9297-4FE9-45D5-AEE2-107074F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796C218-5EC8-4789-B2B1-6F2D2EF4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E681E3A-97A0-4BFF-B44D-FA5C57BA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1DCC31-B531-4880-BE7F-705B2A3A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08073E2-FD21-49A7-B4CE-C4CEE87A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A58C756-B83A-47A5-B870-2AD22ED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25921DE-DF6C-48B6-86D5-196F1F10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00F8BF0-80CD-4591-A869-3CB44DD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CF727C2-EF6C-4C64-88DB-4D1A2249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E31D423-D635-41BD-8280-33A6F7A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DD1C0-98C2-4E1A-9FFA-E7254D29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5821C98-A8B1-48B7-95DD-99E2FD61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9521E3-DC0D-49A9-8A05-FEC7DEB4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909C094-E4F5-4235-AF36-9B297850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CA3F25D-DF1B-4A98-97E6-35C65D4D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19E92B3-E51C-4D92-8ABD-09800286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24D4039-1EC3-4E72-A128-584C54E8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976EA4E-42D4-488D-BCF6-50258E6D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350BD2-4768-4D13-9E69-B62910AF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92B806B-DDE9-4EFE-9ECC-58CACB5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F379CFF-C828-4559-9C13-6D3BE75A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ADE6-9900-4682-A909-A47DF3A2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5734BF3-DA99-4DFD-B8D6-5235DC1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D759C71-C55C-419C-9227-750DB080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B654664-09C7-4B8F-8B8E-6126B20D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089F820-A0F2-4786-8C80-F07DC28B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15CBDBD-6E9A-4F26-B313-8EDDB14F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B46285E-F2EE-494D-B0BA-ACF16514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73F7B11-7C98-406B-BDBA-45473452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87231CE-8902-45D9-A6DA-28BAA00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CEEB77D-C752-4832-A34E-541EE56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49A207C-92D0-4FB2-922E-D73FCD65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79F52-9E7C-4E43-B607-5BBE6BED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5A7F5D4-846D-4559-B443-BA6E2927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6A8EBC7-7298-4F77-A9DC-1325866B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E008BF2-1D19-40D8-8800-DF9B82BC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EA2BFEE-93B0-4848-ACF8-7DD69C83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6EA3D0E-F4EE-4CC5-B469-91B1C3DC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20A9B4B-B038-49DE-854E-57AFE37D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FC68905-A990-45C4-B5F8-DD4148B1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0A6C372-970B-4766-8D92-2DADC654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15D1CA4-3A57-4845-92FC-6B03ABF4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EB8B716-384E-4B2E-9943-84FC2CC9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051FD-D80D-44A0-984A-82CDAE12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649C0CD-2F4F-4DAE-A7ED-F659B972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1F73AB4-8EAD-4470-82E6-6A60364F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45DC7E3-4AF1-4ED4-9906-4D403A9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A8EC7A1-4A62-4F14-AD5E-A9B2A168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31D8892-4A54-462C-B517-99849BA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E84E787-5137-4C67-8308-40F8E44E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741C075-2028-4B90-98B9-AA00B7C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6293549-7D16-4099-9095-1572353E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E3938A8-BFE3-45A3-B881-4CAE380D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8EF3727-A0D4-4D26-ADB8-9C8AB4ED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3E906-25AD-4494-BB78-053E778B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EA2DF02-704C-4EBD-BFCD-B6C9B2A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57CE09B-F882-456E-AD10-63120312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ECBDFF4-18EC-42D4-B064-75A07F6C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BE62A14-4CB7-430D-A33B-9D222C03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C12FA5D-F697-483C-BE0C-F268644F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8D93180-6C1B-43F7-96D5-77CEE40A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A669596-8537-454E-B899-A4AB814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D893384-B779-49C2-8A81-39B4D54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A6E13CA-1D98-4F26-A7DF-937142C8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9D59CFA-2ACB-463F-8908-04936A5F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0646A-68E0-48B7-9F95-F76A493A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34C4800-8931-48E7-B15B-4F067431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8BF0174-AA0B-4DDB-B674-324928A7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A6C04F6-BD86-46A7-9EF8-E47DB83A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B357D28-199C-4517-AD3C-5398A3F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ABB3E1F-D5A6-49ED-8323-70654997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33F2684-4530-4FC4-9AAD-D0F7280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85FC364-2D4E-4D7B-824C-17227503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E0F571F-6622-4D39-8FE5-F97BDF7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6597768-15A8-4766-9E83-BF4344C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AE6D126-F524-402F-A990-71AAF5C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AAE28-2F0B-4E2C-BA1D-C268248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E10280C-396E-4EA8-8DEA-A579A62E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41531B5-B51F-4739-BD8F-DCFEC968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5FF57CF-248C-4D38-AFF9-171839C5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A1CC39A-EEAD-4EA4-9A33-EDE3BDD7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BA812B5-240F-4CC0-99BC-FA0A1A89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898FF16-A82A-459E-857B-D6F4630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DFA1541-FA12-4659-96C9-79D5706A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FDD7D9D-5BF4-4764-9920-B9A4564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9D4DA64-1F0D-41FC-8C7F-449A999C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4D5A800-E74D-40C4-8FFB-0868E3F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99B-E2F5-4A84-899A-F943E9C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BA634-370F-4327-B0FE-AA6161C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1123691-A67D-47FF-B6EA-329F349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E0AC070-97BA-4173-AFA8-A2C2C20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6657E0E-7944-4FBD-9E71-85DBCF2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6F4E026-8332-405F-B9FF-90873507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A1E63C8-B4D8-4BAC-AD62-4BE2F77C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4FD4EE5-F748-43F4-BF55-96F6BC84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9A71D82-BC49-4073-AE61-6E68518D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9C0F1AA-AD12-4BF7-9797-C75F8BF2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CDAA450-D6F0-4F90-A000-A25FF2E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F4DEED0-1F0C-4FEF-B437-15CC7E32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AF9CB-E98B-40C5-9A77-0DE0587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25A9BD6-4B39-4350-AD99-C3C3E4F7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0ADB04C-4DDB-4BE1-9BEC-CDC315B4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CAB167-7DE6-483F-ABBF-5BD229B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42AF744-CFA2-4F33-9170-E4E1656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410DA8C-1701-4A7B-A394-197284D5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886FCB1-F14E-41AB-B86B-6C2283F5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18D054F-595B-412E-A121-F48E21D0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8F5E3AB-3266-41CA-9A3C-AEA925DC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846D558-FD4C-4787-B528-0C31EC18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5AF45FC-DD8D-4282-AF4F-1B1E76EA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10A5-470D-4C36-BC36-F0284CB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08A7DD4-9C47-4E80-9EAD-8CCB6B7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35A527B-628E-4746-9E93-5CFFA707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07437FC-52EC-4EC1-9279-8B782A62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508A8E0-73B8-420D-8A0B-08536CE4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C1DFDCA-8BF8-4349-BE19-236C0869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9E08AAF-C9DD-4B5A-BF24-0FA4BB8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7D608B2-CAF3-482C-AECA-BCAA9DB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90A988E-DC6D-4DDB-898E-B8418B8D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92785EF-6087-41F1-802B-8270EEE0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AC4F6-926A-4FE8-B069-6F64FAD2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A836-47E3-4A71-8CE8-A303E041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DC164-756F-489B-965F-A9F07645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F9CE-5559-4DCB-9689-5F248DA0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C635-B878-4979-AE47-6672E90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A6932-DA48-4247-B0DD-84DBBED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DA629-AEBA-4CE8-A360-DC69B9DA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FBC-FD6C-4A2C-8974-5436F48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4EE4-782A-43D2-8E61-577A140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0587-5B20-4EAF-B5D9-291D306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A5C3-EE9A-4164-9682-AF32D52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1BF5-F093-4AC6-AD8E-270B4E8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45BEB-6868-45C7-8F94-1752C7E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EF4D-99F4-4555-8B7F-F2EAC8CB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9D2D-AE65-4066-9E9B-9646A5F0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6D733-C4F9-4C81-8575-88EDFCB5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543D-399B-4DAB-81AA-629B9C42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6FB97-3C6A-4C4B-93A0-BF89546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D70B-275C-42CD-B221-7EEBE85BE8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F433-506C-49DF-9953-4A604F337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ABDD-400F-4486-8F2C-BA96B5CA4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F2D-7348-4CB0-B90D-2FAC57104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E721-A168-46FC-9E16-A9E68F8EC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09C-A40F-4652-A348-1332899C9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5C28-4B5C-4521-8B91-621CED249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C838-01AF-4C06-A5C6-C64B82C34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3E2E-B381-4DA7-8BF8-EA0FA3A5CE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67B2-FDBE-4BEB-A295-7F5F2D5348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1FB-C39D-4299-814C-7F34DF48CB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7E37-8692-4669-ABC5-301BB38F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346-F67E-44AE-94C5-38C9B0B2E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F077-A825-46CF-8429-5E96C4958B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9438-D48F-48B6-83A7-4A1ECDFCCA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5DA5-1468-40AF-B71B-B029D09276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D7A2-29AC-4EBB-9B49-387F240EDC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0531-6498-4C00-A0D0-DFC22E6CDB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E33-F3F2-4825-8BE7-B5FBF84625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52C-6F36-4F70-AC6F-58018DDCC8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E223-E76B-4FEC-AB1E-5F2D7D6205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1C4-631A-4E31-A62E-7B8692FD3A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DF00-56AB-47BE-A609-26E45B73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BE74-5C58-4AE3-9508-8647CF721F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14FB-4EB0-42EA-8C1F-07A9ADB3C0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5AC7-A99D-4BFC-B5C3-84E35A2406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29DB-C4D6-4EAE-9307-A36321534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4B91-FBD0-4C76-9150-7A7FB1F0D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DAC-769B-4D16-BF9C-E1C4D9A35E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A5FF-A2C7-44DE-BE33-A65F4B0BA4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7290-AC1C-4A15-9942-004029C2DC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5BB0-CF5C-4771-BFCD-BB249D373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5AB2-08F3-4FF0-ABE9-C361A0DE28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BA3-A351-4F6A-A592-136F6C27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EE7C-EC17-42AE-BEDB-8B9AA82EE3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E68D-7845-4C7B-8428-0A6B837CFB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082B-CB62-4C88-96B7-9F97F59C58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6513-613E-4B30-BD34-DDF25758D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58F-BF2F-405D-A5E6-A9CCD14B7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8C25-54FD-4638-8008-0AA2F067D6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8D6C-4A05-420B-BE75-87C4E108B2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25FA-DC0F-43BB-A88D-240AA76FBC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ECCF-8DE7-4030-BA2A-ED98476679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DFAD-61FA-44C6-B266-B629171E6B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A5D-5BEF-48B1-BD30-E91C7F70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F49-2BA8-4E6A-9AF1-E0310D76EB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41E-3685-4CA4-94EC-C3125CABDB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5AAD-18AB-46A5-AE36-AD42FFD037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1126-A424-4DC3-99A8-2FF0C30C0F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5281-5575-4B6E-8D3A-AA4E650015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17E7-FA45-4854-B5AC-AF608563A0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A484-577F-41CD-8ACD-BE1B882AF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13C9-109E-4918-8ED8-75B517B008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7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8F9-83CF-4C26-B5A5-D4A7778BC9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8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3185-9838-4F7A-8EC9-B37B6B2F0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B79-D5EA-4306-9471-1980577F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2B7E-C5C7-4618-848F-CB4200ED65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0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CEC-16B2-4781-8FFC-1BA0D3B88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3C94-7A8B-4B9C-813E-D4E51C9CE4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2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EA0C-66CE-4982-A876-A765C6F5E4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3AB-ED9C-49A7-BE79-7E827F0F4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C6D1-EC79-447A-BB41-70880D6770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2B87-6495-4619-BF32-F64DE99513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7470-D14D-4575-85C9-492413C91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FD8-962B-433E-A4C7-C95BA6F1A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8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0B12-FD55-41B3-B6AF-06EF030427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2461-B3B5-4D54-BC4C-AE2890655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9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45C5-6ECB-4B41-B0CA-6AEE0F3DC9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684-EFC2-4116-8CA6-94E1E3AB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5" name="Picture 5" descr="og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6" name="Прямоугольник 5"/>
          <p:cNvSpPr/>
          <p:nvPr/>
        </p:nvSpPr>
        <p:spPr>
          <a:xfrm>
            <a:off x="228600" y="914400"/>
            <a:ext cx="49528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Поклонимся велики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ем годам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ем славным коман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ирам и бойцам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И маршалам стран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и рядов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Поклонимся и мёртвым, и жив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сем тем, которы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забывать нельз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Поклонимс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Поклонимся, друзья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2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8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8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8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8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8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8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8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8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8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8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8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8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60" name="Picture 4" descr="4928C4A5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3" name="" descr=""/>
          <p:cNvPicPr/>
          <p:nvPr/>
        </p:nvPicPr>
        <p:blipFill>
          <a:blip r:embed="rId1"/>
          <a:stretch/>
        </p:blipFill>
        <p:spPr>
          <a:xfrm>
            <a:off x="468360" y="287280"/>
            <a:ext cx="831672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66" name="Picture 3" descr="C:\Documents and Settings\Олег\Рабочий стол\Каринки о ВОВ\4439209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69" name="Picture 3" descr="BAFDA93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0" name="Picture 4" descr="SL381711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pic>
        <p:nvPicPr>
          <p:cNvPr id="2871" name="Picture 2" descr="SL3805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2" name="Picture 5" descr="070301099770000_1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873" name="WordArt 6"/>
          <p:cNvSpPr txBox="1"/>
          <p:nvPr/>
        </p:nvSpPr>
        <p:spPr>
          <a:xfrm>
            <a:off x="611280" y="0"/>
            <a:ext cx="77058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нута молча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4" name="metronom1.mp3" descr=""/>
          <p:cNvPicPr/>
          <p:nvPr/>
        </p:nvPicPr>
        <p:blipFill>
          <a:blip r:embed="rId4"/>
          <a:stretch/>
        </p:blipFill>
        <p:spPr>
          <a:xfrm>
            <a:off x="533520" y="6324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20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2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28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77" name="Picture 4" descr="DSC00356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80" name="Picture 4" descr="DSC00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83" name="Picture 1" descr="C:\Documents and Settings\Олег\Рабочий стол\Новая папка (2)\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86" name="Picture 6" descr="4185_000033259"/>
          <p:cNvPicPr/>
          <p:nvPr/>
        </p:nvPicPr>
        <p:blipFill>
          <a:blip r:embed="rId1"/>
          <a:stretch/>
        </p:blipFill>
        <p:spPr>
          <a:xfrm>
            <a:off x="-457200" y="0"/>
            <a:ext cx="998208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Rectangle 2"/>
          <p:cNvSpPr/>
          <p:nvPr/>
        </p:nvSpPr>
        <p:spPr>
          <a:xfrm>
            <a:off x="214200" y="762120"/>
            <a:ext cx="71438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Уже давно закончилась вой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Но не для Вас, седые ветера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И в сердце вашем не зажили раны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Так много унесла с собой 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Мы поздравляем с Днем Победы </a:t>
            </a: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В</a:t>
            </a: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а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Желаем долгой жизни и здоро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Вам, обагрившим нашу землю кров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urlz MT"/>
              </a:rPr>
              <a:t>И сохранившим Родину для н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8" name="Picture 10" descr="325"/>
          <p:cNvPicPr/>
          <p:nvPr/>
        </p:nvPicPr>
        <p:blipFill>
          <a:blip r:embed="rId1"/>
          <a:stretch/>
        </p:blipFill>
        <p:spPr>
          <a:xfrm>
            <a:off x="8072280" y="1143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889" name="Picture 10" descr="325"/>
          <p:cNvPicPr/>
          <p:nvPr/>
        </p:nvPicPr>
        <p:blipFill>
          <a:blip r:embed="rId2"/>
          <a:stretch/>
        </p:blipFill>
        <p:spPr>
          <a:xfrm>
            <a:off x="6934320" y="12952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2890" name="Picture 10" descr="325"/>
          <p:cNvPicPr/>
          <p:nvPr/>
        </p:nvPicPr>
        <p:blipFill>
          <a:blip r:embed="rId3"/>
          <a:stretch/>
        </p:blipFill>
        <p:spPr>
          <a:xfrm>
            <a:off x="7238880" y="25146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891" name="Picture 10" descr="325"/>
          <p:cNvPicPr/>
          <p:nvPr/>
        </p:nvPicPr>
        <p:blipFill>
          <a:blip r:embed="rId4"/>
          <a:stretch/>
        </p:blipFill>
        <p:spPr>
          <a:xfrm>
            <a:off x="7010280" y="449568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892" name="Picture 10" descr="325"/>
          <p:cNvPicPr/>
          <p:nvPr/>
        </p:nvPicPr>
        <p:blipFill>
          <a:blip r:embed="rId5"/>
          <a:stretch/>
        </p:blipFill>
        <p:spPr>
          <a:xfrm>
            <a:off x="8072280" y="3429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893" name="Picture 10" descr="325"/>
          <p:cNvPicPr/>
          <p:nvPr/>
        </p:nvPicPr>
        <p:blipFill>
          <a:blip r:embed="rId6"/>
          <a:stretch/>
        </p:blipFill>
        <p:spPr>
          <a:xfrm>
            <a:off x="6629400" y="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894" name="Picture 10" descr="325"/>
          <p:cNvPicPr/>
          <p:nvPr/>
        </p:nvPicPr>
        <p:blipFill>
          <a:blip r:embed="rId7"/>
          <a:stretch/>
        </p:blipFill>
        <p:spPr>
          <a:xfrm>
            <a:off x="8072280" y="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895" name="Picture 10" descr="325"/>
          <p:cNvPicPr/>
          <p:nvPr/>
        </p:nvPicPr>
        <p:blipFill>
          <a:blip r:embed="rId8"/>
          <a:stretch/>
        </p:blipFill>
        <p:spPr>
          <a:xfrm>
            <a:off x="7162920" y="59292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2896" name="Picture 10" descr="325"/>
          <p:cNvPicPr/>
          <p:nvPr/>
        </p:nvPicPr>
        <p:blipFill>
          <a:blip r:embed="rId9"/>
          <a:stretch/>
        </p:blipFill>
        <p:spPr>
          <a:xfrm>
            <a:off x="7848720" y="5181480"/>
            <a:ext cx="1071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"/>
          <p:cNvSpPr txBox="1"/>
          <p:nvPr/>
        </p:nvSpPr>
        <p:spPr>
          <a:xfrm>
            <a:off x="684360" y="4869000"/>
            <a:ext cx="777708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72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440000"/>
                  </a:outerShdw>
                </a:effectLst>
                <a:latin typeface="Impact"/>
              </a:rPr>
              <a:t>1941 год</a:t>
            </a:r>
            <a:endParaRPr b="0" lang="en-US" sz="1800" spc="1" strike="noStrike">
              <a:ln w="6480">
                <a:solidFill>
                  <a:srgbClr val="72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44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8" name=""/>
          <p:cNvSpPr txBox="1"/>
          <p:nvPr/>
        </p:nvSpPr>
        <p:spPr>
          <a:xfrm>
            <a:off x="838080" y="304920"/>
            <a:ext cx="7704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72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2 июня</a:t>
            </a:r>
            <a:endParaRPr b="0" lang="en-US" sz="1800" spc="1" strike="noStrike">
              <a:ln w="12600">
                <a:solidFill>
                  <a:srgbClr val="72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99" name="Picture 2" descr="Рисунок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0" name="Picture 7" descr="33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553080"/>
          </a:xfrm>
          <a:prstGeom prst="rect">
            <a:avLst/>
          </a:prstGeom>
          <a:ln w="0">
            <a:noFill/>
          </a:ln>
        </p:spPr>
      </p:pic>
      <p:sp>
        <p:nvSpPr>
          <p:cNvPr id="2901" name="Rectangle 5"/>
          <p:cNvSpPr/>
          <p:nvPr/>
        </p:nvSpPr>
        <p:spPr>
          <a:xfrm>
            <a:off x="4191120" y="6226560"/>
            <a:ext cx="52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52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0" name="Содержимое 3" descr="clip_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1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Tahoma"/>
              </a:rPr>
              <a:t>Жди меня и я вернусь, только очень ж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2" name="Содержимое 3" descr="clip_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843" name="WordArt 2"/>
          <p:cNvSpPr txBox="1"/>
          <p:nvPr/>
        </p:nvSpPr>
        <p:spPr>
          <a:xfrm>
            <a:off x="179280" y="3357720"/>
            <a:ext cx="8713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шных, мучительных дней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4" name="WordArt 3"/>
          <p:cNvSpPr txBox="1"/>
          <p:nvPr/>
        </p:nvSpPr>
        <p:spPr>
          <a:xfrm>
            <a:off x="228600" y="762120"/>
            <a:ext cx="49687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1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45" name="Picture 4" descr="Орден «Великая Победа»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"/>
          <p:cNvSpPr txBox="1"/>
          <p:nvPr/>
        </p:nvSpPr>
        <p:spPr>
          <a:xfrm>
            <a:off x="0" y="1844640"/>
            <a:ext cx="8604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27 000 00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2847" name=""/>
          <p:cNvSpPr txBox="1"/>
          <p:nvPr/>
        </p:nvSpPr>
        <p:spPr>
          <a:xfrm>
            <a:off x="539640" y="333360"/>
            <a:ext cx="57610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гиб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48" name=""/>
          <p:cNvSpPr txBox="1"/>
          <p:nvPr/>
        </p:nvSpPr>
        <p:spPr>
          <a:xfrm>
            <a:off x="1258920" y="5013360"/>
            <a:ext cx="612144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ло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51" name="Picture 6" descr="1943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54" name="Picture 2" descr="C:\Documents and Settings\Олег\Рабочий стол\Каринки о ВОВ\6290625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57" name="Picture 5" descr="go"/>
          <p:cNvPicPr/>
          <p:nvPr/>
        </p:nvPicPr>
        <p:blipFill>
          <a:blip r:embed="rId1"/>
          <a:stretch/>
        </p:blipFill>
        <p:spPr>
          <a:xfrm>
            <a:off x="162000" y="-838080"/>
            <a:ext cx="8982000" cy="853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18T04:01:16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